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4AFA-EC4B-4949-84ED-4BB0817D2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B3B4-DDD7-4677-823F-2584FACC6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39B6-38BA-41C2-BD09-7F8F04B63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EAE7-B901-4517-9177-CED6D6A9A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DFC0-49F9-4B96-AF73-42B32DC33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A3E7-5953-4ECF-B01D-77EEB7CBF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7014-8169-4EF3-8AB9-A8E38E1B7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AF86-B819-4F93-A476-32398AAD1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5F7C-4B2B-4FBA-A403-8DAB628CC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9BB0-8F50-433E-86F2-EC2E5538B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2C44-EA33-45E5-B2BC-742998859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3925-700B-4112-BF5F-864CD6E9C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FC38-08DC-4FCB-B908-13820CC3E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3A64-ED8B-4CD6-9D20-37A859817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4AFF-2B48-41F7-95F6-159EDDAAD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D732-1105-4F20-AF43-B61581A71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7A39-7EFE-4D7E-BD0D-A860E09FA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5F9C-67A8-4DAC-B617-3FC5A2AD7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72A-EEAB-4F58-A834-9F93AA77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6B5-73E4-4ADE-954B-D168EFAD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FA110-8553-4250-8D22-11A892BE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58C18-6CF3-4A48-BCCA-C5BF50D5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A5F35-474B-47ED-84AD-CDAD6932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4C3CD-5E23-48EE-B78C-30E66FCC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90E89-1E55-4E4B-AFF3-5074959C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6D7D6-7F4F-4825-9824-542595E8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4BB79-7DE6-4F21-912B-569511D8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33533-4028-4CF3-AFD2-419B1787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A30E9-80E6-4AA5-81CB-3F411A87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BF8BE-0648-48C1-A15C-3FB9769B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94E-5F23-407C-BF2E-63EBDC54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DEA36-DA09-4AD7-9F06-A126A4D8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C425B-ECA4-43C4-BFB6-C61DD9FB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A72BE-1A4D-4595-87C8-6904E8F7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5FE66-A81A-4BA7-9321-709EB113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45E3B-184C-476A-B5AB-400D06DB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48833-2298-47C3-B808-8660AC88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5D234-B4FB-40F7-97F1-8BC588B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8F1B0-5F50-46CA-B661-DE32D2CD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AC3FD-F2F6-4492-B959-1CC5ECE1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EBB0C-EBB5-4EF1-90A3-EF1F1284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55D-6CF5-4532-8A3D-CABC47A5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12C68-E9C2-4B36-94A6-82C9E7F9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6363E-8314-44F4-886D-27766D9B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1DB03-D703-4D28-A632-502551D7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1102D-8FD1-426B-889B-E292180A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662F8-629A-48AC-BF10-EE622B5D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F3583-7F2B-4DBC-8DBA-3A980E51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33200-E546-48EB-8D73-9DE5C6ED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EBEAF-9FFD-4720-8B92-0A6D0D8E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FC1FE-BF98-4144-B009-95F7CB02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DEABD-694A-4053-9C5A-94EEB585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ED35-B4E2-4DB9-A839-4FECE6B6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63261-8F38-45FF-BCF9-C1DA18D8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E7198-3B17-4EF7-B56C-6D87BAC7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B91B0-1301-434F-BE7A-882D9ACD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B7D6C-A72F-46E3-A0DD-F9839146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CF719-D526-4D43-834C-3BA906FA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64F02-4309-44BD-B48F-4264D596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02E91-FB79-442E-BA5B-9FA9B4A3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C23B5-3714-4A7C-B5C2-88EC55AA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9F580-2E58-4457-9E27-5A443C9E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B5B04-199D-437B-8187-8889769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9FCC-69EA-4206-B931-18C9E577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DCEEA-B79B-48AA-B367-AF2FEC6E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B1DC1-BD24-4412-B4E5-5B918AD2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B7098-E5DB-48E2-9644-5DE72D19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968EC-B727-41CB-868C-5B9765EA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745B6-2364-441F-8DBE-419B9C57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B2BC-DEDB-46D4-B8A1-F1390064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13CE-ECF6-4FE4-9021-6A99AA13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0B1F-11C0-4576-A6FA-B81E7D4C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5C9A-D774-46E6-957F-9A008E24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35B-5306-4EF3-BAB4-AAB7C1C1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C03-FFF1-46F0-AD33-BAEF0AB9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74ED-47CB-4412-822B-DEDF72F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0EBE-2E25-40FE-A928-8527FDB0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85C3-0B20-40B9-A518-F74502B8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F7FC-EE07-4DD3-83D1-BF4CBD01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0508-5F64-4721-B53A-B9B99EF9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DAD3-DDDD-47FC-8AFE-4CF3F8DE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AE23-20AB-4435-8732-C517C335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9671-F801-41F9-85D7-085EDB19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710E-E8AA-46BD-86F4-EC837AE6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B813-D51F-43E2-A270-E5F20491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06A-B2EE-494C-9825-2CE4CDB5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CBD68-D952-4184-A7BA-FD949157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7824-95DA-4D1E-A2DA-F5023B6A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E62B-DB00-44CE-936B-6BBDA73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31EB-6845-4380-ACEE-15C8EE8F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BABA-F20B-4712-B0DB-C67A4E24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7C6BE-EA40-4774-AE2E-9D909360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4005-05B9-43AF-8903-FCE05F9D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4695E-EC12-474E-93A6-529DFA04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6770E-4E43-4A0E-AA62-BA022F2E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CBAD-9DAF-4B4C-B1D8-05DAA355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AA0-29FD-441C-B17D-568E5B65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A684D-A160-457B-B239-32931C6A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8FB3-DCE0-42F2-8084-FFC3F279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F7B89-4DCA-4899-B5F6-37753AE5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9653C-5FED-43BC-95FF-2BCC1217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621FC-33C5-453F-951F-648F9650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98D24-478E-4A05-A3A8-67BFB28D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A325-AD42-452E-93B6-C2CC79A2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7472-2A3F-489E-81F8-D30DFEF7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9903-D283-4B0B-9C9F-64BF1CB0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9ADCE-3A26-4B40-9E60-6F675786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0F4-3A4A-42B1-9971-71AD6458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150F1-B378-4D08-BE76-91C16073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05209-8B26-4982-ACD5-186066D1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9292E-8B77-4898-B6F1-ABA6DAAF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A3122-2E9B-447B-B5AE-BEC1F568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E8336-6668-4922-9177-3BD6DBAF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A71A6-8716-4FFC-BC03-579279D9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03807-A2EF-4882-A02E-AE830DD5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741EF-A341-4352-ABB0-32BF70B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F1628-40EF-46C2-B611-C40C2865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0F327-7611-4FB3-B177-5E056BF7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B65-A3FB-4895-8908-C6B7653F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4C534-41BE-43A9-B0DC-133CD3DC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723C7-C106-446E-8138-8740917A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EE19F-04E5-449E-8604-EFECFDB0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0304C-6B49-4F4E-B8C2-0E29116F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7FBD0-E9F7-4C2F-88CB-D8160D9C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7C73B-CFE2-4966-82BA-B274E7F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F9EEC-AB76-4612-AF13-E1A0F0E5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ADF14-39D1-44BC-A3CC-D8CC6FA4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3519D-2B95-483D-8E82-0922ED45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19149-27BC-4BD0-8C5B-8412AD98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D11-B685-406A-BBF2-D0963E07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8C30-0F94-46E9-844C-C9F6243D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D3F6-8830-4C7E-AF1E-5F6E1E7C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D7BA5-9C51-4BDE-8174-A850ABD1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FD94B-CEBC-4BC8-9C74-A511F236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8FCEE-1DB9-4B3D-81ED-4F512ADC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AD92E-F50C-4038-BA2A-1ECD5867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B4722-774B-432B-8BEC-018DECE1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8BCC1-7C9A-4FFE-8A69-0D3B1681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ED100-8B9C-47E8-9926-3E51CD53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CA1AC-BD0A-4F4D-BDED-A4278DB5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2B7-D232-43A3-9C27-06043E6C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C84C2-00C9-4CFF-B832-BADD87CE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F1C33-292B-4A2F-B2C3-A859252C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89E6D-A877-4C42-94EB-AF6EB47E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189EE-D28A-4E33-AEA7-31C3EAB7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C273B-57B6-42FE-979F-1812D50E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CFD3-D9E7-4E89-89FA-AAE49392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70588-952D-4A11-803E-AC08255D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B2518-67E7-4599-AD2C-20702C41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7BE4F-0CFB-421B-896F-71E6BF22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DE6C0-B7CD-4579-8876-9F698FA7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9C0-DA8B-47F9-B151-4C4BCF84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D3B28-9267-497C-951E-FDA12EAA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B20DF-5A60-4B8C-8B80-E6137666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DE733-0521-42A1-8195-86DCFDD8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5974C-6941-4758-9BA7-F482569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3B74D-9A5C-4146-BFCB-B3C8494E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B53A0-2DCA-4F01-81B2-3F62EE1C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019FD-327E-45CA-845A-42ACCB7A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07210-F644-4DEC-9B38-90CEFC60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72CE2-13FE-4456-8A9C-57CD2E25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9D50B-F046-4DD6-8C8C-F2EC9B95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A68D-B392-4DAB-9B48-F943CF690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19EE-7BAF-4F1D-A1DB-76CFBF2D34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4C1B-3BE0-4619-9515-F0E65CA2E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A94D-D039-4B9D-AD76-134E7D731D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E19E-D1A1-4871-8C2A-3AC329CBF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5DE2-85B4-4301-8589-5ECD29E6ED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E124-B176-4487-BDE7-BFBF404592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4D31-9A00-4424-B6FD-C647BA65A5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CE21-BF6C-4C7E-AC32-399E9EC8FF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5065-0CFD-4A17-92DD-8482D1D917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9283-1A88-4AE4-9E45-8F66F0A97D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708E-3554-4943-9F73-CEECD9CB0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57168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8600" spc="-1" strike="noStrike">
                <a:solidFill>
                  <a:srgbClr val="d16349"/>
                </a:solidFill>
                <a:latin typeface="Georgia"/>
              </a:rPr>
              <a:t>DATABASE</a:t>
            </a:r>
            <a:endParaRPr b="0" lang="en-US" sz="8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databas3.jpg"/>
          <p:cNvPicPr/>
          <p:nvPr/>
        </p:nvPicPr>
        <p:blipFill>
          <a:blip r:embed="rId1"/>
          <a:stretch/>
        </p:blipFill>
        <p:spPr>
          <a:xfrm>
            <a:off x="2428920" y="2571840"/>
            <a:ext cx="42894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DATA TYP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LPHANUMERIC/TEXT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NUMERIC (NUMBER)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LOGICAL/BOOLEAN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DATE</a:t>
            </a:r>
            <a:br>
              <a:rPr sz="2700"/>
            </a:b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428760" y="2428920"/>
            <a:ext cx="4929120" cy="85716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NUMERIC (number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For integers (whole numbers) or real numbers (decimal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Fields that hold numbers only eg. 27 or 0.24, not numbers and 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DATA TYP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LPHANUMERIC/TEXT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NUMERIC (NUMBER)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LOGICAL/BOOLEAN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DATE</a:t>
            </a:r>
            <a:br>
              <a:rPr sz="2700"/>
            </a:b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428760" y="3357720"/>
            <a:ext cx="4929120" cy="85716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LOGICAL/BOOLE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Can only hold two values – usually yes/no or true/fal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Fields such as a Member? Paid? Where the answer is yes or n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ccess shown this as a box that is ticked yes or not  ticked n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DATA TYP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LPHANUMERIC/TEXT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NUMERIC (NUMBER)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LOGICAL/BOOLEAN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DATE</a:t>
            </a:r>
            <a:br>
              <a:rPr sz="2700"/>
            </a:b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428760" y="4286160"/>
            <a:ext cx="4929120" cy="85752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DAT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For dates or tim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Storing dates in many different forma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VALID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Use validation rules to make sure the data you enter is REASONAB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 validation rule does not stop you entering the wrong data, it stops you entering UNREASONABLE dat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5" name="Picture 3" descr="validation.jpg"/>
          <p:cNvPicPr/>
          <p:nvPr/>
        </p:nvPicPr>
        <p:blipFill>
          <a:blip r:embed="rId1"/>
          <a:stretch/>
        </p:blipFill>
        <p:spPr>
          <a:xfrm>
            <a:off x="3214800" y="3357720"/>
            <a:ext cx="20714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VERIF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Two methods, visual checking and double entr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3" descr="VERIFICATION.jpg"/>
          <p:cNvPicPr/>
          <p:nvPr/>
        </p:nvPicPr>
        <p:blipFill>
          <a:blip r:embed="rId1"/>
          <a:stretch/>
        </p:blipFill>
        <p:spPr>
          <a:xfrm>
            <a:off x="3214800" y="2286000"/>
            <a:ext cx="2538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300" spc="-1" strike="noStrike">
                <a:solidFill>
                  <a:srgbClr val="a9432b"/>
                </a:solidFill>
                <a:latin typeface="Georgia"/>
              </a:rPr>
              <a:t>Computer-based filing syst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Information in computer-based filing systems are stored in DATA FIL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 FILE is a collection of RELATED REC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Related records means that one field in a table will contain the  same sort of information as a field in each of the other tabl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28760" y="642960"/>
          <a:ext cx="8372520" cy="2000160"/>
        </p:xfrm>
        <a:graphic>
          <a:graphicData uri="http://schemas.openxmlformats.org/drawingml/2006/table">
            <a:tbl>
              <a:tblPr/>
              <a:tblGrid>
                <a:gridCol w="2093760"/>
                <a:gridCol w="2092320"/>
                <a:gridCol w="2093760"/>
                <a:gridCol w="209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S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2456-9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plete Ca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laudia Heini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6789-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uild your own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rian Dea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87890-098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tter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ula 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620" name="Rectangle 6"/>
          <p:cNvSpPr/>
          <p:nvPr/>
        </p:nvSpPr>
        <p:spPr>
          <a:xfrm>
            <a:off x="214200" y="285840"/>
            <a:ext cx="8572680" cy="250020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1643040" y="4071960"/>
            <a:ext cx="5857920" cy="78588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Georgia"/>
              </a:rPr>
              <a:t>Fi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Straight Arrow Connector 9"/>
          <p:cNvCxnSpPr/>
          <p:nvPr/>
        </p:nvCxnSpPr>
        <p:spPr>
          <a:xfrm>
            <a:off x="4070880" y="2785680"/>
            <a:ext cx="429480" cy="1429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500040" y="1500120"/>
          <a:ext cx="8229600" cy="202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S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2456-9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plete Ca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laudia Heini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6789-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uild your own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rian Dea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87890-098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tter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ula 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625" name="Rectangle 6"/>
          <p:cNvSpPr/>
          <p:nvPr/>
        </p:nvSpPr>
        <p:spPr>
          <a:xfrm>
            <a:off x="285840" y="1428840"/>
            <a:ext cx="8429400" cy="57132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1857240" y="4286160"/>
            <a:ext cx="5643720" cy="57168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Georgia"/>
              </a:rPr>
              <a:t>Fiel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Straight Arrow Connector 9"/>
          <p:cNvCxnSpPr/>
          <p:nvPr/>
        </p:nvCxnSpPr>
        <p:spPr>
          <a:xfrm>
            <a:off x="3785040" y="2000160"/>
            <a:ext cx="715320" cy="2215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500040" y="1500120"/>
          <a:ext cx="8229600" cy="202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S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2456-9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plete Ca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laudia Heini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6789-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uild your own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rian Dea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87890-098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tter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ula 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630" name="Rectangle 6"/>
          <p:cNvSpPr/>
          <p:nvPr/>
        </p:nvSpPr>
        <p:spPr>
          <a:xfrm>
            <a:off x="428760" y="3143160"/>
            <a:ext cx="8429400" cy="57168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1857240" y="4286160"/>
            <a:ext cx="5643720" cy="78588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Georgia"/>
              </a:rPr>
              <a:t>Rec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Straight Arrow Connector 9"/>
          <p:cNvCxnSpPr/>
          <p:nvPr/>
        </p:nvCxnSpPr>
        <p:spPr>
          <a:xfrm>
            <a:off x="4428000" y="3428640"/>
            <a:ext cx="72360" cy="786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500040" y="1500120"/>
          <a:ext cx="8229600" cy="202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S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2456-9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plete Ca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laudia Heini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6789-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uild your own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rian Dea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87890-098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tter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ula 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635" name="Rectangle 6"/>
          <p:cNvSpPr/>
          <p:nvPr/>
        </p:nvSpPr>
        <p:spPr>
          <a:xfrm>
            <a:off x="428760" y="1285920"/>
            <a:ext cx="2000160" cy="228600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857160" y="4929120"/>
            <a:ext cx="5643720" cy="57168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Georgia"/>
              </a:rPr>
              <a:t>Key 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Straight Arrow Connector 9"/>
          <p:cNvCxnSpPr/>
          <p:nvPr/>
        </p:nvCxnSpPr>
        <p:spPr>
          <a:xfrm>
            <a:off x="1428480" y="3571920"/>
            <a:ext cx="1572120" cy="1286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500040" y="1500120"/>
          <a:ext cx="8229600" cy="202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S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2456-9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plete Ca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laudia Heini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6789-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uild your own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rian Dea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87890-098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tter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ula 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640" name="Rectangle 6"/>
          <p:cNvSpPr/>
          <p:nvPr/>
        </p:nvSpPr>
        <p:spPr>
          <a:xfrm>
            <a:off x="428760" y="1285920"/>
            <a:ext cx="2000160" cy="228600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1285920" y="3786120"/>
            <a:ext cx="7358040" cy="278604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000000"/>
                </a:solidFill>
                <a:latin typeface="Georgia"/>
              </a:rPr>
              <a:t>Key Field uniquely identifies an individual rec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Straight Arrow Connector 9"/>
          <p:cNvCxnSpPr/>
          <p:nvPr/>
        </p:nvCxnSpPr>
        <p:spPr>
          <a:xfrm>
            <a:off x="1428480" y="3571920"/>
            <a:ext cx="1572120" cy="1286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DATA TYP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LPHANUMERIC/TEXT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NUMERIC (NUMBER)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LOGICAL/BOOLEAN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DATE</a:t>
            </a:r>
            <a:br>
              <a:rPr sz="2700"/>
            </a:b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428760" y="1500120"/>
            <a:ext cx="4929120" cy="85716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ALPHANUMERIC/TEX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800" spc="-1" strike="noStrike">
                <a:solidFill>
                  <a:srgbClr val="000000"/>
                </a:solidFill>
                <a:latin typeface="Georgia"/>
              </a:rPr>
              <a:t>Can hold any character such as a letter, number, symbol or space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800" spc="-1" strike="noStrike">
                <a:solidFill>
                  <a:srgbClr val="000000"/>
                </a:solidFill>
                <a:latin typeface="Georgia"/>
              </a:rPr>
              <a:t>Mixture of letters and numbers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2:53:59Z</dcterms:created>
  <dc:creator>Kotie</dc:creator>
  <dc:description/>
  <dc:language>en-US</dc:language>
  <cp:lastModifiedBy>pienaark</cp:lastModifiedBy>
  <dcterms:modified xsi:type="dcterms:W3CDTF">2010-05-19T18:35:32Z</dcterms:modified>
  <cp:revision>4</cp:revision>
  <dc:subject/>
  <dc:title>DATABASE</dc:title>
</cp:coreProperties>
</file>